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00D66C-FDF1-4D20-BE9C-B95BBCF6D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B72DF0-4980-4C3F-BD25-B745D7761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Recurring services – monthly telephone or internet 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recurring services – installations, equipment, wiring (things that happen o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1 – Sept 30 – good time for installation b/c schools are closed during the 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CDA196-F70F-4A61-9695-C5B1EDFCE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’ll talk about a few examples of what P1 and P2’s are in the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e fund all P1’s first and then move to P2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w/the S&amp;L that qualify for a 90% discount and we go down by 1%, so to 89% and so on until we run out of money – for example in FY 2007 we funded P2’s from 81% and above, and have denied at 80% and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CFC6-2FCD-4061-9BDF-6D8E0EC51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B235-2976-4E5C-B687-7393A4BCC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B260-C7A9-40F3-BA43-F2C6428AB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F5EA-DD22-43CD-A3D4-5E498C12B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A654-47DF-4BCF-8349-A969EBC54B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F088-99E5-4F2E-A04A-1A93459223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6F7B-660A-4705-AC51-7256FC24AE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BEDB-62FB-45D5-8032-83FF46294A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00408-AA47-4D7C-99E4-BD32876D1B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9DB4-3441-4C7B-A406-B1E3C4B6D0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900A-8F43-4A5E-9C08-1CE74D65D2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D9C1-2661-4222-BCE5-4F6EB1EA5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5B94-4306-4DE6-8084-0D2C0ED12A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C46F-AFC5-4EED-981E-F141411BBB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63FFE-229B-4022-B8BE-0EE6E59F02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25423-444B-416A-B76B-D6C0424B22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2B249-151D-4E4E-A696-2D344ADB10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EC46-29CE-41E1-8594-47804E09D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F416-CBA6-47E3-AE02-E36E7BAA2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0142-FF2A-4989-B534-3E42EDC7B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F562-9975-46D2-8D85-ED652F722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EE1B-036A-4464-96EB-D04A5363E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196E-693F-478A-98C5-77184D06E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30A9-4926-447B-A030-0AD26E573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038480" y="624492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12C3-0234-4B49-A907-8845C18DC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924320" y="65070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90760" y="624492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AEDE-5034-46B8-8534-A480C0ED8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9"/>
          <p:cNvSpPr/>
          <p:nvPr/>
        </p:nvSpPr>
        <p:spPr>
          <a:xfrm>
            <a:off x="1371600" y="1676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inners S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 • Chicago • Orlando • Los Angeles • Portland • Hous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A3B0-2796-4528-893A-AA1CA743F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file a program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you have three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online, certify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online, certify 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nd certify 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C encourages you to file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filing speeds processing and reduces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0567-2333-40C4-9012-1AD1A26C4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ime you file a program form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ds you a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are color-coded by funding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98 and 1999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ary (Yello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ue                     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BC71-88C4-460A-A0C7-FE59B5E8C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echnology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write a technology plan that contains the following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and strategies for using technology to improve education or libr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if you are only request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sic telephone ser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technology plan is no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AE45-6E2C-4FCD-997F-1CA200269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echnology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1080" y="179856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6b2"/>
                </a:solidFill>
                <a:latin typeface="Arial"/>
              </a:rPr>
              <a:t>Acronyms and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ve 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five required topics you must address in your technology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Plan Approver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the agency certifi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approves your technology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sic telephone serv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o-frills dial-tone service (wired or wirel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D888-1F13-4BFE-84A1-EBCAEFD30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Request services (47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post a Form 470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 competitive bidd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fy potential bidders (service providers) of the types and quantities of services that you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scope of your needs (e.g., a school building, a library system, a state net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B8D8-05BE-4DC3-B028-A90470231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Request services (47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79856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6b2"/>
                </a:solidFill>
                <a:latin typeface="Arial"/>
              </a:rPr>
              <a:t>Acronyms and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ed Entity Number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an identification number assign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ach school or library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Identification Number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a code assign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pplicants for use in certifying program forms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issues a PIN to every new authorized person filing a paper Form 470, 471, or 4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F608-D3FB-4F21-8932-6CB390178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Request services (47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79856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6b2"/>
                </a:solidFill>
                <a:latin typeface="Arial"/>
              </a:rPr>
              <a:t>Acronyms and term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for Proposal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F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a bidding document (not required by E-rate) that provides detailed information about your services, locations, bid submission requirement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ates or procurement agencies refer to these documents by other names, e.g., Invitation for Bids (IF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E99C-46D1-459D-A5E6-641EE6E79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Request services (47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79856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6b2"/>
                </a:solidFill>
                <a:latin typeface="Arial"/>
              </a:rPr>
              <a:t>Acronyms and term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470 Receipt Notification Letter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N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a letter issu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applicant that summarizes the information provided in the Form 4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able vendor selection/contract date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the date 28 days after the Form 470 is posted to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064F-05D1-40E9-996A-A5F6344C3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petitive bi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open a competitive bidding process for your servi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bidders have the information from your Form 470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F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n respond to your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ensure that the competitive bidding process is open and 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be prepared to evaluate b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C9B4-268A-476D-B9F1-67FAF8E51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petitive bi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79856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6b2"/>
                </a:solidFill>
                <a:latin typeface="Arial"/>
              </a:rPr>
              <a:t>Acronyms and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service provider response to your Form 470 and/or RFP that contains services and prices and any other information you have requ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ice as the primary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n evaluating bids, the price of the eligible products and services must be the most heavily-weighted factor in your evaluation of b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C0D4-5B9F-4CA9-A9FF-2BAFE0762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4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nformation about E-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services (Form 4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bi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/contract for services (Form 47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review &amp; funding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services (Form 48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ice USAC (Form 472 or Form 47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D33A-83F9-4A61-90AC-D25C322F2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petitive bi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 you close the competitive bidding process for your services (on or after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C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evaluate the bids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hoose your service provide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ign a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post a Form 4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BFE0-0722-4E6F-A460-E94AC0136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hoose services (47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post a Form 471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information on the service providers and services you have cho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list of the schools and libraries that will receiv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discount calculation information including studen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S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ify your compliance with program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328A-C890-4F8B-9FCE-6D76D60E3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hoose services (47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7000" y="165564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6b2"/>
                </a:solidFill>
                <a:latin typeface="Arial"/>
              </a:rPr>
              <a:t>Acronyms and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Request Number 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R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the identification number assigned to a Form 471 Block 5 funding requ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 Provider Identification Number 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P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the identification number assigned by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a service pro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 providers may have more than on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P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order to identify separate business units, different states in which they operate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1BE0-DA7F-441D-94A2-836F7FFAA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hoose services (47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6b2"/>
                </a:solidFill>
                <a:latin typeface="Arial"/>
              </a:rPr>
              <a:t>Acronyms and term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instructional facility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a school building with no classrooms or a library building with no public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IF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eligible for Priority 1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IF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eligible for Priority 2 services only if necessary to provide effective transport of information to classrooms or public areas of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D3B6-6990-41B2-9BEE-094A1499D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hoose services (47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6b2"/>
                </a:solidFill>
                <a:latin typeface="Arial"/>
              </a:rPr>
              <a:t>Acronyms and term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 21 Attachment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em 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the description of services associated with a funding request (Item 21 on Form 47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21 attachments can be submitted online or 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encourages online filing, especially for simpler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BB59-1387-4EEF-9298-C2BBB41C9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hoose services (47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7985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6b2"/>
                </a:solidFill>
                <a:latin typeface="Arial"/>
              </a:rPr>
              <a:t>Acronyms and term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471 Receipt Acknowledgment Letter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a letter issu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applicant and the service provider that summarizes the information provided in the Form 4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 entries on the form can be corrected after submission by using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0C12-88F0-44F9-8ECA-9833F68A4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Application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views your Form(s) 471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e eligibility of the schools and libraries and their discoun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that the services you requested are eligible for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 an opportunity to make allowable corrections to your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cases, ask for additional verification of your compliance with program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4780-D7B5-4A5F-AB56-0AB671D62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Application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56b2"/>
                </a:solidFill>
                <a:latin typeface="Arial"/>
              </a:rPr>
              <a:t>Acronyms and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 Integrity Assurance 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th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oup that reviews and makes funding decisions on program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Commitment Decision Letter 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CD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a letter issued by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the applicant and the service provider that contains commitment decisions on funding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07D4-6485-4EE6-801F-A8B3FECCB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Start services (48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post a Form 486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f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services have started and invoices for those services can be processed and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he name of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approved your technology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your status of compliance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DDD8-6D62-483D-B925-29D1B9B75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Start services (48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6b2"/>
                </a:solidFill>
                <a:latin typeface="Arial"/>
              </a:rPr>
              <a:t>Acronyms and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m 486 Notification L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letter issu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applicant and service provider after a Form 486 has been pro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’s Internet Protection Act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I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a law with specific requirements on Internet safety policies and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85C9-7EAB-4908-9C71-A49538A3C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Communications Commission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C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n independent U.S. government agency, oversees the E-rat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Service Administrative Company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 not-for-profit, administers E-rate along with three other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and Libraries Division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the part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responsibility for E-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711F-45B4-4F8C-8045-A6479D3E2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Invoicing USAC (472/47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nts have a choice of two invoicing methods to receive discounts on eligible servi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led Entity Applicant Reimbursement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EA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Form 4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 Provider Invoice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P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Form 4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1D04-4B05-44CD-9772-3F49D4BD5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Invoicing USAC (472/47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EA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m is filed by the applicant and approved by the service provider after the applicant has paid for the services in f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P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m is filed by the service provider after the applicant has been billed for the non-discount portion of the cost of eligible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083A-2648-41DA-A557-C7DDEC85A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Invoicing USAC (472/47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2a56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56b2"/>
                </a:solidFill>
                <a:latin typeface="Arial"/>
              </a:rPr>
              <a:t>Acronyms and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AR Notification L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letter issu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applicant and service provider after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been pro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arterly Disbursement Re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report issued to the applicant detailing all invoicing activity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during the previous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4301-3566-4B2A-AFC1-1ECF7003A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ting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ent Service Bureau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S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888-203-8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a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 News Br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p 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AC website – www.usac.org/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rate B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C0D6-1950-4A69-8FEA-809F08DFF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9269-B5FE-4985-B4DC-ED72B0CFD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C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ts rules and policies through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are compiled in the Code of Federal Regulations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F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are defined in the text of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ts procedures for specific actions, such as how to process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nds its procedures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C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pproval each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BF9F-B798-458B-BEFB-69A918FDB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s for E-rate are made by funding year, which runs from July 1 through the following June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FY2010 is July 1, 2010 – June 30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s are capped at $2.25 billion for each funding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each year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C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roll over unused funds from previous funding years into the current funding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C2AB-73E4-4F9D-A157-D2DDF4E67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m 47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le from April befor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28 days before th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Wind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m 47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ust be filed during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enerally mid-November to early February before the start of the funding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unding wa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roups of funding decisions issued after USAC review – waves generally start in April before the start of the funding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o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an file after services are received for the funding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E28A-588B-424D-B23B-DCF8A75CF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can app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and school distr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ies and librar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rtia – groups of eligible entities that band together to aggregate demand and negotiate lower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294C-01F7-4FED-85EB-B850CFA67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arge are the discounts on eligible products and servic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unts: 20% to 90% of eligible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unt for a school or library depends 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ntage of eligibility of students for National School Lunch Program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NSL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i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a school) th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a library) the school district in which the library is loc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Urb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u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ocation of the school or libr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5233-D7F9-46FC-ACF0-5CD98D6FD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ervices are elig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iority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unded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lecommunications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net 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iority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unded beginning with neediest applicants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nal Conn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sic Maintenance of Internal Conn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2:02:20Z</dcterms:created>
  <dc:creator>rreynolds</dc:creator>
  <dc:description/>
  <dc:language>en-US</dc:language>
  <cp:lastModifiedBy>John Noran</cp:lastModifiedBy>
  <dcterms:modified xsi:type="dcterms:W3CDTF">2009-09-17T20:17:07Z</dcterms:modified>
  <cp:revision>294</cp:revision>
  <dc:subject/>
  <dc:title>Slide 1</dc:title>
</cp:coreProperties>
</file>